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3C50-C0BE-4F51-8ABA-FF7285AD6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7DC8-EF8A-44A5-A432-204AF5E0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B282-A443-40B5-B716-4AD365CA4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9ED8-3861-4F8E-825B-0672DE238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4C28-BBE9-4CD2-A3FB-4E29C2B6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AE3C-C57E-4B3F-9EBF-51D28FBF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951F-6CCD-4CEA-8EAB-2A6A1287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62E3-A3E2-41BA-90DA-5156DC9E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4824-9AAA-4E0F-BA69-F8DB5CB3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09C1-CC63-42C7-9282-69FD5E9C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3513-0E24-4DE7-BF15-39E68E4A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4431-7BE9-48B0-AFEE-9EF9CB46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B126-3F37-42D2-B3C7-988799F95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5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Design Options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 for Contro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162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3505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90720" y="4267080"/>
            <a:ext cx="7238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7010640" cy="990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066680" y="533520"/>
            <a:ext cx="7010640" cy="1218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066680" y="1752480"/>
            <a:ext cx="701064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066680" y="3733920"/>
            <a:ext cx="70106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0195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8077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620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391520" cy="4190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>
            <a:off x="3200400" y="2438280"/>
            <a:ext cx="7632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467840" cy="2057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048120" y="3581280"/>
            <a:ext cx="29718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239240" cy="2749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71629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162920" cy="2209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066680" y="3352680"/>
            <a:ext cx="7162920" cy="762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066680" y="4267080"/>
            <a:ext cx="71629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209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90720" y="3809880"/>
            <a:ext cx="708660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86600" cy="2209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066680" y="2895480"/>
            <a:ext cx="7086600" cy="8384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523880" y="3886200"/>
            <a:ext cx="5943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086600" cy="2210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990720" y="3733920"/>
            <a:ext cx="7086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86600" cy="2209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066680" y="2971800"/>
            <a:ext cx="7086600" cy="914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066680" y="3962520"/>
            <a:ext cx="7086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086600" cy="2210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990720" y="3733920"/>
            <a:ext cx="7086600" cy="88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86600" cy="2209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066680" y="2971800"/>
            <a:ext cx="7086600" cy="882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066680" y="3962520"/>
            <a:ext cx="708660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2057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62120" y="2743200"/>
            <a:ext cx="7467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2590920"/>
            <a:ext cx="74674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46784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38080" y="2209680"/>
            <a:ext cx="746784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7086600" cy="2590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V="1">
            <a:off x="3124080" y="1371600"/>
            <a:ext cx="13716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1143000"/>
            <a:ext cx="23623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ur focus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54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96440" cy="5639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62520" y="2895480"/>
            <a:ext cx="388620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5T04:56:37Z</dcterms:modified>
  <cp:revision>43</cp:revision>
  <dc:subject/>
  <dc:title>PowerPoint Presentation</dc:title>
</cp:coreProperties>
</file>